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FDA-91C8-43E6-B142-4DC5AF0A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D21-4457-44B0-B0AC-0C585D88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5D17-649A-43EA-9864-0BBB71E3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9B87-4B16-40F3-A3EA-E2B6B6B1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B6D-544B-4241-8901-0D8AF928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F2B0-9DE5-4A3B-8C46-C27A6575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E7BE-C003-421C-8381-667C5340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F846-27D8-4D68-98A3-949FB2E9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F5B-39A5-44C8-BC62-3D40CF71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D42-CCF7-4E7E-8C93-F4846E2B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3CDB-7745-460D-83D7-834A0BCC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9CA9-C42D-4109-B665-975EAC18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0EFE-E571-41E8-A65B-EF6FCA669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VOLUTI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</a:t>
            </a:r>
            <a:br>
              <a:rPr sz="6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617220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</a:t>
            </a:r>
            <a:r>
              <a:rPr b="1" lang="en-US" sz="1000" spc="-1" strike="noStrike">
                <a:solidFill>
                  <a:srgbClr val="cc0099"/>
                </a:solidFill>
                <a:latin typeface="Arial"/>
                <a:ea typeface="Arial"/>
              </a:rPr>
              <a:t>©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ph tortoises"/>
          <p:cNvPicPr/>
          <p:nvPr/>
        </p:nvPicPr>
        <p:blipFill>
          <a:blip r:embed="rId1"/>
          <a:stretch/>
        </p:blipFill>
        <p:spPr>
          <a:xfrm>
            <a:off x="2133720" y="3733920"/>
            <a:ext cx="5114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n humans select and breed animals with certain useful traits from the natural variation in the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814040" y="2666880"/>
            <a:ext cx="479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rtificial sele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8720" y="3657600"/>
            <a:ext cx="8576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ocess by which unrelated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rganisms independently evolv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milarities when adapting to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milar environ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523880" y="60199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onvergent evolu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ok published by Charles Da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which he proposed a mechanis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provided evidence for 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ory of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46760" y="2438280"/>
            <a:ext cx="673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On the Origin of Species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80880" y="335268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cess by which related organisms evolve differences when they are isolated in different environ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990720" y="51814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ivergent evolu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822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bones in the diagrams below are examples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35800" y="1752480"/>
            <a:ext cx="61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omologous structur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4" descr="homolog appendages"/>
          <p:cNvPicPr/>
          <p:nvPr/>
        </p:nvPicPr>
        <p:blipFill>
          <a:blip r:embed="rId1"/>
          <a:stretch/>
        </p:blipFill>
        <p:spPr>
          <a:xfrm>
            <a:off x="1752480" y="2666880"/>
            <a:ext cx="4038840" cy="3276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2208960" y="6248520"/>
            <a:ext cx="39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angelfire.com/ab7/evolution12/evolutionclues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601992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turalist who gave Darwin incentiv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ublish his ideas about evolutio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riting an essay that described 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247840" y="213372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lfred Walla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14480" y="3276720"/>
            <a:ext cx="863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rench naturalist who hypothesiz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at organisms acquire traits during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ir lifetime through use or disus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ich can be passed on to offspr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066680" y="5715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Jean-Baptiste Lamarc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 geologists who recognized that Earth is many millions of years old and that processes that changed it still operate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70520" y="2286000"/>
            <a:ext cx="751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James Hutton &amp; Charles Lyel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09480" y="33526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glish economist who reasoned that if the human population kept growing unchecked, there would be insufficient food and space for every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85800" y="6019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omas Malth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ain what was incorrect about Lamarck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heritance of Acquired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14840" y="3678120"/>
            <a:ext cx="873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ain what was correct about Lamarck’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heritance of Acquired Tra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525780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First theory about evolutio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Organisms do change and adapt to their environ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24080" y="1789200"/>
            <a:ext cx="871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enes determine which traits are passed o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unless genes are changed the acquired trait wi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only show in the original organis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ame 3 kinds of evidence that supports Darwin’s THEORY OF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968040" y="1925640"/>
            <a:ext cx="7661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Fossi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eographic distrib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omologous struc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Vestigial orga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mbryology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seudoge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rtificial selec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an see natural selection work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antibiotic resistance, new diseases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4059000" cy="3962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4495680" y="990720"/>
            <a:ext cx="3843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idea that all species, living and extinct, were derived from a common ances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251000" y="2362320"/>
            <a:ext cx="458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ommon desc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60240" y="3643200"/>
            <a:ext cx="828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atural selection is the same 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______________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09480" y="4267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urvival of the fitte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ange in a population over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833840" y="1461960"/>
            <a:ext cx="259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volu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18760" y="3643200"/>
            <a:ext cx="803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fferences among individuals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ithin a speci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85800" y="54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atural vari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easuring lima beans and finding beans come in different sizes is an example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07960" y="1981080"/>
            <a:ext cx="458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Natural vari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08120" y="3643200"/>
            <a:ext cx="8367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practice of breeding dogs 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oduce offspring with specifi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aits is an example of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_________________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85800" y="54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rtificial selec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human’s appendix and a skink’s legs are examples of 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350720" y="1905120"/>
            <a:ext cx="42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estigial orga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443520" y="3276720"/>
            <a:ext cx="5679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would Lamarc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xplain these giraff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ith longer neck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28600" y="52578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y grew longer with u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Picture 6" descr="ph lamarck"/>
          <p:cNvPicPr/>
          <p:nvPr/>
        </p:nvPicPr>
        <p:blipFill>
          <a:blip r:embed="rId1"/>
          <a:srcRect l="0" t="0" r="64636" b="0"/>
          <a:stretch/>
        </p:blipFill>
        <p:spPr>
          <a:xfrm>
            <a:off x="6629400" y="2819520"/>
            <a:ext cx="2187720" cy="3429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1432080" y="64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381600" y="6324480"/>
            <a:ext cx="469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© 200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04920" y="22860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would Darwin explain these giraffes with longer neck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175248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opulations naturally ha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ndividuals with differ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izes of neck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(natural variation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 ones with longer neck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re better able to get food, survive, and pass on their longer neck gen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4" descr="ph lamarck"/>
          <p:cNvPicPr/>
          <p:nvPr/>
        </p:nvPicPr>
        <p:blipFill>
          <a:blip r:embed="rId1"/>
          <a:srcRect l="0" t="0" r="64636" b="0"/>
          <a:stretch/>
        </p:blipFill>
        <p:spPr>
          <a:xfrm>
            <a:off x="6781680" y="1600200"/>
            <a:ext cx="2187720" cy="3429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1432080" y="64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81600" y="6324480"/>
            <a:ext cx="469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© 200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4920" y="228600"/>
            <a:ext cx="8534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would Darwin explain the evolution of this giraffe population towards longer neck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3520" y="22096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Longer necked giraffes can better compete for food and survive to reproduce, passing on their long necked gen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432080" y="64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81600" y="6324480"/>
            <a:ext cx="469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© 200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6" descr="ph lamarck"/>
          <p:cNvPicPr/>
          <p:nvPr/>
        </p:nvPicPr>
        <p:blipFill>
          <a:blip r:embed="rId1"/>
          <a:stretch/>
        </p:blipFill>
        <p:spPr>
          <a:xfrm>
            <a:off x="5181480" y="4572000"/>
            <a:ext cx="37339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0773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04920" y="228600"/>
            <a:ext cx="8534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would Lamarck explain the evolution of this giraffe population towards longer neck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33520" y="22096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 long-necked trait acquired by stretching can be passed onto offspring and those organisms will be better able to surviv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432080" y="64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81600" y="6324480"/>
            <a:ext cx="469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© 200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6" descr="ph lamarck"/>
          <p:cNvPicPr/>
          <p:nvPr/>
        </p:nvPicPr>
        <p:blipFill>
          <a:blip r:embed="rId1"/>
          <a:stretch/>
        </p:blipFill>
        <p:spPr>
          <a:xfrm>
            <a:off x="5181480" y="4572000"/>
            <a:ext cx="37339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822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iagrams a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ight show e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. natural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. natural var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. common desc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. artificial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98360" y="1523880"/>
            <a:ext cx="458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ommon desc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Picture 4" descr="homolog appendages"/>
          <p:cNvPicPr/>
          <p:nvPr/>
        </p:nvPicPr>
        <p:blipFill>
          <a:blip r:embed="rId1"/>
          <a:stretch/>
        </p:blipFill>
        <p:spPr>
          <a:xfrm>
            <a:off x="5715000" y="228600"/>
            <a:ext cx="3139920" cy="2548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4952160" y="-720"/>
            <a:ext cx="39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angelfire.com/ab7/evolution12/evolutionclues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60199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ccording to this diagram, mod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les have a vestigial pel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femur. What does this sugg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bout ancestors of modern wha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29923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ncestors of modern whales had legs an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walked on l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800600" y="3276720"/>
            <a:ext cx="3943440" cy="32050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4267800" y="6643800"/>
            <a:ext cx="469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© 200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adaptations in species of finches that Darwin observed on the Gal</a:t>
            </a:r>
            <a:r>
              <a:rPr b="1" lang="el-GR" sz="3600" spc="-1" strike="noStrike">
                <a:solidFill>
                  <a:srgbClr val="000000"/>
                </a:solidFill>
                <a:latin typeface="Comic Sans MS"/>
              </a:rPr>
              <a:t>ά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agos Islands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ifferent shaped 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521600" y="1523880"/>
            <a:ext cx="167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beak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7520" y="3400560"/>
            <a:ext cx="79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y did Darwin first hesitate to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ublish his ideas about evolution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" y="48006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His findings challenged fundamental scientific beliefs at the ti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7720" y="15192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ructures that develop from the same embryonic tissues, but have different mature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226520" y="2133720"/>
            <a:ext cx="61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omologous structur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06960" y="3643200"/>
            <a:ext cx="813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rgan with little or no fun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14600" y="4572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Vestigial orga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52578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possible explanation for a set of observations or a possible answer to a scientific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ange in the DNA sequence of a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ganism due to mistake is replication or damage from radiation or chemic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023280" y="2438280"/>
            <a:ext cx="29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ypothes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320480" y="57261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mut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les and wolves share a common ancestor, but have evolved to look very different. This is an example of _____________ evolu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276560" y="182880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diverg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50560" y="3400560"/>
            <a:ext cx="87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do we call genes that ha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ost their function due to mutations?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57200" y="48006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seudogen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les and sharks are not closely related, but have evolved to have similar body shapes and fins because they live in similar environments. This is an example of _____________ evolu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779760" y="2971800"/>
            <a:ext cx="308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onverg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ell one piece of evidence that suggests human chromosome #2 evolved by joining 2 smaller ancestor chromos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7080" y="2714760"/>
            <a:ext cx="825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Banding pattern match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t has telomeres in the middl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nstead of just at the end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t has an extra inactive centrome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nstead of just on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les and wolves share a common ancestor, but have evolved to look very different. This is an example of _____________ evolu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276560" y="182880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diverg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50560" y="3400560"/>
            <a:ext cx="87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do we call genes that ha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ost their function due to mutations?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57200" y="48006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seudogen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ive an example of homologou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68120" y="1571760"/>
            <a:ext cx="85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Human arm, bird wing, whale flipp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37520" y="3400560"/>
            <a:ext cx="87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ive an example of a pseudogene you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earned abou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57200" y="4800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Vitamin C gene in primates,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genes for “smell” in hum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well supported, testable explanation of phenomena that have occurred in the natural world is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alled 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ame the ship that Darwin spent 5 years on traveling around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184400" y="2743200"/>
            <a:ext cx="17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o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371600" y="5638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H.M.S. Beag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is the scientist that proposed the idea that forces have been changing the Earth and have been at work for millions of ye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19480" y="25909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James Hutt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45960" y="3400560"/>
            <a:ext cx="810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is the scientist that propos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idea of “Inheritance of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cquired Traits”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33520" y="51814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Jean-Baptiste Lamarc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is the scientist that propo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idea that forces which have b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anging the Earth are still at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482200" y="2362320"/>
            <a:ext cx="30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harles Lyel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93960" y="3400560"/>
            <a:ext cx="882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realized that human pop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ere increasing and said eventuall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would not be enough food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pace for everyon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762120" y="57913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omas Malth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5345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is the scientist that propo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idea about evolution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mpted Darwin to publish his the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546640" y="2362320"/>
            <a:ext cx="34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lfred Walla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51800" y="3400560"/>
            <a:ext cx="855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ur, feathers, beaks, antlers, &amp; claw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e all examples of 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105520" y="38862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dapt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lions prey on a herd of antelope, some antelope are killed and some escape. Which part of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rwin’s theory of evolution might be used to describe this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651680" y="2286000"/>
            <a:ext cx="51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urvival of the fittes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78640" y="3352680"/>
            <a:ext cx="824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aptations can be which of thes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hysical     behavioral    geographic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447920" y="5410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hysical or behavior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ain what was incorrect about Lamarck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heritance of Acquired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14840" y="3678120"/>
            <a:ext cx="873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ain what was correct about Lamarck’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heritance of Acquired Tra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80880" y="55627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Comic Sans MS"/>
              </a:rPr>
              <a:t>LIVING THINGS CHANGE OVER TIME TO BEST FIT THEIR ENVIRONMENTS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850680" y="1981080"/>
            <a:ext cx="706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Comic Sans MS"/>
              </a:rPr>
              <a:t>TRAITS ARE DETERMINED BY GENES; </a:t>
            </a:r>
            <a:br>
              <a:rPr sz="2800"/>
            </a:br>
            <a:r>
              <a:rPr b="1" lang="en-US" sz="2800" spc="-1" strike="noStrike" u="sng">
                <a:solidFill>
                  <a:srgbClr val="cc0099"/>
                </a:solidFill>
                <a:uFillTx/>
                <a:latin typeface="Comic Sans MS"/>
              </a:rPr>
              <a:t>ACQUIRED TRAITS ARE NOT PASSED 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other name for divergent evolu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s 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Darwin called “survival of the fittes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other name for “struggle for existance” is 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50360" y="685800"/>
            <a:ext cx="44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daptive radi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990720" y="32767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atural selec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515040" y="5040360"/>
            <a:ext cx="29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ompeti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all the places he visited, the ______________ Islands influenced Darwin’s ideas about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volution the most.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391400" y="7621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GALAPAG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-45000" y="2971800"/>
            <a:ext cx="93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addition to observing liv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ganisms, Darwin studied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eserved remains of ancient organism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lled 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2057400" y="4572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fossi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 the Galápagos Islands, Darwin observed that the characteristics of many animals and pl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. all looked a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. were completely un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. were acquired through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. varied from island to isl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85520" y="3962520"/>
            <a:ext cx="706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. Varied from island to is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9220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rwin’s concept of evolution was influenced by all of the following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XCEP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work of Charles Lyell and James H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. his collection of specimens and foss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. his knowledge of the structure of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. his voyage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althus’s ideas about populations 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533520" y="41148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. Darwin didn’t know about DNA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 of these statements about the structur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uman chromosome #2 provide evidence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oluti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XCEP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. Its banding pattern matches the pattern seen on two smaller chimp chrom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. It has telomeres in the center, as well as at the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. It carries a functional gene for making vitami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. It has an extra non-functional centrome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2480" y="5562720"/>
            <a:ext cx="88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. Humans have a nonfunctional vitamin C making gene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nd its not on chromosome #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ive a summary of Darwin’s theory of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45400" y="1371600"/>
            <a:ext cx="72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99"/>
                </a:solidFill>
                <a:uFillTx/>
                <a:latin typeface="Comic Sans MS"/>
              </a:rPr>
              <a:t>Natural variation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 in population provides basi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for natural selection to 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685800" y="2286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Overproduction of offspring forces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mpetition for resources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(struggle for surviv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317520" y="3429000"/>
            <a:ext cx="87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Organisms best suited to their environment will surviv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and reproduce; Other organisms die or leave few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Offspring (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mic Sans MS"/>
              </a:rPr>
              <a:t>survival of the fittest/natural selection</a:t>
            </a: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651600" y="4724280"/>
            <a:ext cx="844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Species alive today have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Comic Sans MS"/>
              </a:rPr>
              <a:t>descended with modification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   from ancestral species that lived in the distant pa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686520" y="5638680"/>
            <a:ext cx="779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omic Sans MS"/>
              </a:rPr>
              <a:t>All organisms are united into a single “tree of life”</a:t>
            </a:r>
            <a:br>
              <a:rPr sz="2400"/>
            </a:br>
            <a:r>
              <a:rPr b="1" lang="en-US" sz="2400" spc="-1" strike="noStrike">
                <a:solidFill>
                  <a:srgbClr val="0066cc"/>
                </a:solidFill>
                <a:latin typeface="Comic Sans MS"/>
              </a:rPr>
              <a:t>    (common desc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295280" y="12189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END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306440" y="4799880"/>
            <a:ext cx="681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VOLUTION IS STILL HAPPE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bility of an organism to survive and reproduce in a specific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961720" y="2666880"/>
            <a:ext cx="189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itne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71600" y="3643200"/>
            <a:ext cx="8756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herited characteristic tha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creases and organism’s chan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r surviva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895480" y="56386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dapt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eserved remains of an an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rga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799800" y="160020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ossi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97280" y="3429000"/>
            <a:ext cx="9111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slands that Darwin visited on h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voyage on the Beagle that start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im thinking about how organis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hange over tim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352680" y="59436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Galapag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ncept that each living species has descended with changes from other species over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 flipV="1" rot="10800000">
            <a:off x="990360" y="2818440"/>
            <a:ext cx="701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Descent with Modific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3480" y="4114800"/>
            <a:ext cx="860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dea that organisms that ar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est suited to their environment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ill survive and reprodu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33520" y="6019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urvival of the Fitte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901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IVE AN EXAMPLE OF 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HYSICAL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981080"/>
            <a:ext cx="83818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Webbed feet, horns, antlers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aws, feathers, wings, camouflag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. . . . there are a million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334160" y="3809880"/>
            <a:ext cx="626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IVE AN EXAMPLE OF 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EHAVIORAL ADAPT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04920" y="52578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Nocturnal (coming out at night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Flying south for the winter, living in herd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gon train” defense; burrowing; hibern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1:18:38Z</dcterms:created>
  <dc:creator>Becca Riedell</dc:creator>
  <dc:description/>
  <dc:language>en-US</dc:language>
  <cp:lastModifiedBy>dzahm</cp:lastModifiedBy>
  <dcterms:modified xsi:type="dcterms:W3CDTF">2013-10-31T18:10:21Z</dcterms:modified>
  <cp:revision>35</cp:revision>
  <dc:subject/>
  <dc:title>NAME OF GAME</dc:title>
</cp:coreProperties>
</file>